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DE2-B028-4219-9E56-11F32380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89B-3AA6-404A-8C13-EE53DE9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5D4-E91A-44CD-8A10-92C2A208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C7D-A5E3-4B86-A574-E786A83C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4609-4539-4B5A-89DA-E01B6D94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063D-CDF0-4E52-A18B-150DF8DB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B12-76F4-4015-8769-5C62F20E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E3AF-B427-4CFC-9DE0-7F34E8D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A37B-AD49-44D1-BE7A-6B04380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DC43-2836-40FE-9771-0AB40558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7BB-E00C-4DE2-8AE7-9DC5AAA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167-118B-4E24-9FFF-6030AD19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230C-5F2F-4BDE-9230-ECE270A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499C-DBF9-49B9-BF03-C72878D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572-6AF9-47FE-B78E-C7193A94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72B7-ED0A-49EE-B533-CC4782DD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A21-D91A-4A8B-A36B-B82EAD9D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2C4-5F5A-4D31-924B-4347403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966-0003-4704-8E81-1F29C6C6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E36-148E-4FB1-9387-2C63E0E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052-FB9C-4647-9000-976926F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8B2-5D1F-4433-8AB5-ADD22AF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75A-B0E8-498E-A4D0-A0A0094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F7B-8CB9-4222-99BF-2E6E637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AFE2-3727-49E8-A553-2C6921BACD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9F3-8502-4C6A-BC23-44AF221ED4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upils will discuss Qualities of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upils will watch a video and note down the qualities of the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alitie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order to perform, observe and describe strengths and weaknesses in performance, you need to take into account the four qualities of performa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echnic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ysic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son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alitie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 Technical, Physical, Personal and Special qualities write down TWO aspects within each of these quali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 quality performance in gymnastics demands the following basic 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rolled mo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ow and 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ffective use of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ariety of mo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ation in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atch the video closely and note down what qualities the performer shows within their rout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youtube.com/watch?v=kcITw-kdV3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oose TWO qualities (either technical, physical, personal or special) and explain why these qualities are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10-02-08T10:25:32Z</dcterms:modified>
  <cp:revision>61</cp:revision>
  <dc:subject/>
  <dc:title>Slide 1</dc:title>
</cp:coreProperties>
</file>